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wmf" ContentType="image/x-wmf"/>
  <Override PartName="/ppt/media/image6.wmf" ContentType="image/x-wmf"/>
  <Override PartName="/ppt/media/image11.png" ContentType="image/png"/>
  <Override PartName="/ppt/media/image19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4.jpeg" ContentType="image/jpe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9856788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EF39-4C07-4A76-8305-462519B22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EEAE-23DF-43B9-99C9-6287F8174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8C37-6868-4AD2-B537-CBB1348DD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F352-B0EB-44D9-BCAB-8A4D30B36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97A7-9072-42EE-8553-E4249588D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C31E-4EA7-4B1C-B5EC-9F421F580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CAD3-0875-494D-A47E-9308A7A2C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174C-6296-4617-9AA6-632A8B455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F497-1F5B-492B-BF90-652CA02E9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0FCB-D13D-4DB6-8F42-97354A4C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15F3-3E01-44CE-9831-1AD307D3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7588-06C2-42BB-8B98-1E376286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30320" y="6059520"/>
            <a:ext cx="9013680" cy="722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527520"/>
            <a:ext cx="114300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676520" y="6527520"/>
            <a:ext cx="457200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24480" y="6527520"/>
            <a:ext cx="91440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Slide #: </a:t>
            </a:r>
            <a:fld id="{BE3377B6-71B7-414D-B252-BC507AD35441}" type="slidenum"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28600" y="5000760"/>
            <a:ext cx="8915400" cy="1724040"/>
            <a:chOff x="228600" y="5000760"/>
            <a:chExt cx="8915400" cy="172404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886200" y="5051520"/>
              <a:ext cx="5257800" cy="16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228600" y="5000760"/>
              <a:ext cx="3809880" cy="17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jpe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image" Target="../media/image22.png"/><Relationship Id="rId18" Type="http://schemas.openxmlformats.org/officeDocument/2006/relationships/image" Target="../media/image23.png"/><Relationship Id="rId19" Type="http://schemas.openxmlformats.org/officeDocument/2006/relationships/image" Target="../media/image24.png"/><Relationship Id="rId20" Type="http://schemas.openxmlformats.org/officeDocument/2006/relationships/image" Target="../media/image25.png"/><Relationship Id="rId2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EXPReS: Third Board Meeting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Welcome and Introduction </a:t>
            </a:r>
            <a:br>
              <a:rPr sz="4000"/>
            </a:b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- 2008 January 30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35049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XPReS Project 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JIVE, Coordinating In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Management Organogram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Int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57080" y="1084320"/>
            <a:ext cx="6939000" cy="520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hird Board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DAD9-3314-42EB-B8B4-F11B0D83304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 Januar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7315200" y="6019920"/>
            <a:ext cx="1828800" cy="838080"/>
            <a:chOff x="7315200" y="6019920"/>
            <a:chExt cx="1828800" cy="838080"/>
          </a:xfrm>
        </p:grpSpPr>
        <p:sp>
          <p:nvSpPr>
            <p:cNvPr id="106" name=""/>
            <p:cNvSpPr/>
            <p:nvPr/>
          </p:nvSpPr>
          <p:spPr>
            <a:xfrm>
              <a:off x="7391520" y="6019920"/>
              <a:ext cx="17524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315200" y="6477120"/>
              <a:ext cx="1720800" cy="250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EXPReS Timeline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533520" y="750960"/>
          <a:ext cx="7772400" cy="53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750960"/>
                    <a:ext cx="7772400" cy="53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6934320" y="571500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DRAF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hird Board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2A0C-53D1-464B-AC79-55DD75D70B4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 Januar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886200" y="5715000"/>
            <a:ext cx="1488960" cy="4446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09480" y="2257560"/>
            <a:ext cx="614520" cy="6141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523880" y="2297160"/>
            <a:ext cx="849600" cy="534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2666880" y="2389320"/>
            <a:ext cx="901800" cy="3524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3809880" y="2362320"/>
            <a:ext cx="836640" cy="404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4876920" y="2421000"/>
            <a:ext cx="888840" cy="287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6019920" y="2413080"/>
            <a:ext cx="1508040" cy="360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8"/>
          <a:stretch/>
        </p:blipFill>
        <p:spPr>
          <a:xfrm>
            <a:off x="7802640" y="2133720"/>
            <a:ext cx="731880" cy="8618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9"/>
          <a:stretch/>
        </p:blipFill>
        <p:spPr>
          <a:xfrm>
            <a:off x="685800" y="3262320"/>
            <a:ext cx="849240" cy="5875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0"/>
          <a:stretch/>
        </p:blipFill>
        <p:spPr>
          <a:xfrm>
            <a:off x="1752480" y="3346560"/>
            <a:ext cx="2246400" cy="5904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1"/>
          <a:stretch/>
        </p:blipFill>
        <p:spPr>
          <a:xfrm>
            <a:off x="4338720" y="3098880"/>
            <a:ext cx="666720" cy="914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tkk-ctv-eng" descr=""/>
          <p:cNvPicPr/>
          <p:nvPr/>
        </p:nvPicPr>
        <p:blipFill>
          <a:blip r:embed="rId12"/>
          <a:stretch/>
        </p:blipFill>
        <p:spPr>
          <a:xfrm>
            <a:off x="5257800" y="3271680"/>
            <a:ext cx="2290680" cy="665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3"/>
          <a:stretch/>
        </p:blipFill>
        <p:spPr>
          <a:xfrm>
            <a:off x="7767720" y="3247920"/>
            <a:ext cx="614160" cy="6145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4"/>
          <a:stretch/>
        </p:blipFill>
        <p:spPr>
          <a:xfrm>
            <a:off x="587520" y="4317840"/>
            <a:ext cx="874440" cy="9144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5"/>
          <a:stretch/>
        </p:blipFill>
        <p:spPr>
          <a:xfrm>
            <a:off x="1882800" y="4356000"/>
            <a:ext cx="836640" cy="836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6"/>
          <a:stretch/>
        </p:blipFill>
        <p:spPr>
          <a:xfrm>
            <a:off x="3025800" y="4356000"/>
            <a:ext cx="836640" cy="836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7"/>
          <a:stretch/>
        </p:blipFill>
        <p:spPr>
          <a:xfrm>
            <a:off x="4241880" y="4389480"/>
            <a:ext cx="614160" cy="7714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8"/>
          <a:stretch/>
        </p:blipFill>
        <p:spPr>
          <a:xfrm>
            <a:off x="5235480" y="4546440"/>
            <a:ext cx="1266840" cy="4572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9"/>
          <a:stretch/>
        </p:blipFill>
        <p:spPr>
          <a:xfrm>
            <a:off x="6835680" y="4611600"/>
            <a:ext cx="1698840" cy="3272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0"/>
          <a:stretch/>
        </p:blipFill>
        <p:spPr>
          <a:xfrm>
            <a:off x="4038480" y="1219320"/>
            <a:ext cx="1067040" cy="711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hird Board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CAE3-514F-403A-A67A-C1C4F1DEEB2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 Januar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Welcome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i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titutes and Prox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o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hird Board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81F9-07A1-4A74-AA87-D19AECCF653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 Januar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Agenda- General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- En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cri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:30 - 8:4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come: introduction, administrivia, proxies, chairman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:40 - 9:0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RFnet- developments in research network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ing science: Negg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:00 - 9:3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ors view: Langevel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:30 - 11:0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y Updates (~15 minutes eac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NA1/NA4: Y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NA2: Con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NA3: Chev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SA1: Szomor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SA2: Colo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JRA1: Yun, Ketten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:00 - 11:15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COFFEE BREAK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:15 - 11:45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ning for nex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Organizing and writing text, Collecting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:45 - 12:45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ending contr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Discussing o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:45 - 14:0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unch &amp; Wrap 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hird Board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EED3-B96E-4C0B-A9C7-06178667769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 Januar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dministrivia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s to Age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te particip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econ/Video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ests in the mee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y visi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s w/r/t leaving the room for vo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hird Board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791C-0CD4-4EED-991F-0065DC795BE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 Januar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Substitutes and Proxie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25360" indent="-2253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ting Prox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RNet selected Tasso Tziou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O selected Paco Col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tRAO indicated that they will vote with the maj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o Colomer representing CNIG-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nni/Mantovani Representing INA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hird Board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A805-A212-4261-823A-F5D1131E40B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 Januar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Quorum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 the Consortium Agree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Governing Board may validly meet i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wo-thirds (2/3) of its members are pres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r represent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 Partners, 13 individuals make quo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ndance/Quo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hird Board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E2E0-FA6E-4B49-ABEE-3A193EB71B6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 Januar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Meeting Minute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Meeting Min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utes taken by Yvonne K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items to be requested explici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ious meeting minutes were accepted via email v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ious min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pted via e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hird Board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CA84-94C8-43CA-B48C-C36D9069B3F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 Januar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ction Items from previous meeting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31720" y="1447920"/>
          <a:ext cx="8078760" cy="3440160"/>
        </p:xfrm>
        <a:graphic>
          <a:graphicData uri="http://schemas.openxmlformats.org/drawingml/2006/table">
            <a:tbl>
              <a:tblPr/>
              <a:tblGrid>
                <a:gridCol w="534960"/>
                <a:gridCol w="5330880"/>
                <a:gridCol w="1249560"/>
                <a:gridCol w="96336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er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reate an image gallery on the web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R offic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.s.a.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lan a new EVN-NREN meeting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J.Chever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.s.a.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me up with ideas how to involve TIGO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l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.s.a.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sk the board members how difficult the process of getting an audit certificate was and discuss this with the EC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. Yu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.s.a.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heck the receipt of the audit certificate of OSO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.Yu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.s.a.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ntact the EC and explore what extension of the project might entail. Report the findings back to the Boar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. Yu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end out a reminder to the Board in January 2008 to start working on the next 18 month plan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. Yu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tart sending change requests to the 18 month plan in the January-February timeframe if you wish and expect them to be incorporated into the next Annual Report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hird Board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DB73-6E04-4FC8-ABD8-25A0D91901E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 Januar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roject Change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irman and Vice-Chair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i will “retire” as Chair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asso is currently vice-Ch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ote on new Chairman and Vice-Chair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anges to Project Organogram (see next sli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vonne Kool’s name ad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arles Yun proposed for JRA1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hird Board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A1A5-3C38-4520-A9CA-AB8EC317AFD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8 Januar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07:40:25Z</dcterms:created>
  <dc:creator>Kristine Yun</dc:creator>
  <dc:description/>
  <dc:language>en-US</dc:language>
  <cp:lastModifiedBy>tcyun</cp:lastModifiedBy>
  <dcterms:modified xsi:type="dcterms:W3CDTF">2008-01-30T07:13:33Z</dcterms:modified>
  <cp:revision>128</cp:revision>
  <dc:subject/>
  <dc:title>Slide 1</dc:title>
</cp:coreProperties>
</file>